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B03-9089-4262-B31B-DBD5D642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9DC-9163-4397-A352-058204E3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4C4-AE5D-46B9-94D4-3F73448B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266-53D6-4745-B97D-CDFE90AE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5BEA4-1E43-4FBB-83B3-F1BF5BE5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09B1-38AB-4ACB-A07C-38826B62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338-97FF-41FF-AC9A-7D3A0024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0513-DAB2-44F2-BCAB-AAC0FA3A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A088-EDC3-4BF6-96A6-B2F3980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1F1-A98E-4CA7-8DBB-BED42AD0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CD1F-7424-4D2D-81F8-76AB14F2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8A5-CDEB-4800-9522-196A0E07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0F11-A8AB-468A-AC2E-DDF495F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D27C-5803-4111-8255-DB41C38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C0F4-7196-43AB-A7C3-FF8DB0D2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2863-D511-4CDB-9369-7D62E4DB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3897-EBFC-42FB-A18C-D9D163C5D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908-6A93-431A-99F9-3C2B21A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1F6-3BDF-45A2-A39C-C18534C2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2BBA-295F-4135-82F6-62D5ECA0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1827360"/>
            <a:ext cx="7772400" cy="75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576-5097-4EFB-8D3C-806E744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CFA-3E19-4C03-84DB-6B7E1F63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C41-D043-4D35-BCF3-B58484B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951-D871-4132-B27C-25A53D64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9D62-588C-4FDB-BD76-E469F551F83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6E3F-43E0-4886-90D2-BAB61B71601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6:02:38Z</dcterms:created>
  <dc:creator>hoang.duong</dc:creator>
  <dc:description/>
  <dc:language>en-US</dc:language>
  <cp:lastModifiedBy>hoang.duong</cp:lastModifiedBy>
  <dcterms:modified xsi:type="dcterms:W3CDTF">2008-04-25T16:03:26Z</dcterms:modified>
  <cp:revision>1</cp:revision>
  <dc:subject/>
  <dc:title>Slide 1</dc:title>
</cp:coreProperties>
</file>